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8DA1-FE0A-493C-A52A-A01280A2272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Презентация</a:t>
            </a:r>
            <a:br>
              <a:rPr sz="1200"/>
            </a:b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 Тема:</a:t>
            </a:r>
            <a:br>
              <a:rPr sz="1200"/>
            </a:b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«Цирроз печени»</a:t>
            </a:r>
            <a:br>
              <a:rPr sz="2400"/>
            </a:br>
            <a:br>
              <a:rPr sz="2400"/>
            </a:br>
            <a:br>
              <a:rPr sz="1100"/>
            </a:br>
            <a:br>
              <a:rPr sz="11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AC85-2D9D-455A-B635-8FF79AA9568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a5ee6"/>
                </a:solidFill>
                <a:latin typeface="Calibri"/>
              </a:rPr>
              <a:t>Кли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висит от этиологии, от степени нарушения функции печени и выраженности синдромов портальной гипертензии и печёночной недостато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алобы: на боли в правом подреберье и подложечной области, усиливающиеся после еды(жирной, острой) и физических нагруз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шнота, периодическая рвота, чувство сухости и горечи во рту, общая слабость, утомляемость, раздражительность, кожный зуд, похудание. У женщин – нарушение менструального цикла. У мужчин – нарушение пот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9207-CCFC-4C25-9F36-96A568E2ACB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ивно: исхудание, вплоть до истощения, атрофия мускулатуры , кожа желтушно-бледная, сух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жет быть расширение вен передней брюшной стенки, увеличение живота, выпячивание пупка, отёки нижних конечностей. Сердцебиение, глухость сердечных тонов, аритмия, одышка, повышение артериальн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фоне цирроза печени развивается хронический гастрит, язвенная болезнь, сахарный диабет, нарушается функция половых желез, надпочечников и развивается токсическая энцефалопатия. Она проявляется нарушением сна, головными болями, снижением памяти, дрожанием пальцев рук, апат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чень при пальпации плотная, увеличена в размерах, с острым краем. На поздних стадиях цирроза может быть уменьшена в раз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DC81-2519-4CD6-99C4-E0918602075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Часто при циррозе развиваются ослож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овотечения из расширенных вен пищевода, или геморроидальных уз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печеночной недостаточности с исходом в печеночную к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торичная бактериальная инфекция (тяжелая пневмония, сепсис, перитони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ход цирроза печени в р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81A3-E97B-45E4-89BA-5BF6CD5C78A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a5ee6"/>
                </a:solidFill>
                <a:latin typeface="Calibri"/>
              </a:rPr>
              <a:t>Диагностика цирроза печен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АК – анемия, тромбоцитопения, лейкопения, увеличение СО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АМ – протеинурия, микрогематурия,  билирубин в моч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унологический анали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E65C-0DB7-4491-A73C-7F7AC281803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Маркёры вирусной инфе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 Биохимическое исследование крови – гипербилирубинемия, диспротеинемия, за счет увеличения количества глобулинов. Повышение уровня осадочных проб – сулемовая, тимоловая. Повышение уровня трансаминаз – Ал-Ат, Ас-Ат, и щелочной фосфата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1C65-FC0B-4B92-9CF8-D69D85260BF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Calibri"/>
              </a:rPr>
              <a:t>Инструментальные исслед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ЗИ печени и желчного пузыря(выявляется неравномерность ткани печени, увеличение размер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ая томография органов брюшной пол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строско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оноско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CE2C-3F2C-401E-A483-BB22EF475C1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нкционная биопсия печени с последующим гистологическим исследованием, может проводиться во время лапароскопии или чрезкожно.  Позволяет судить об активности процесса и является важным дифференциальным критерием для отличия хронического гепатита от цирроза печ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0FDB-07EA-421D-9E9E-4C51852DB2D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alibri"/>
              </a:rPr>
              <a:t>Леч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6cb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Лечебный режим. Исключается работа с физическими и психоэмоциональными нагрузками. Показан кратковременный отдых в течении дня. Исключаются гепатотоксические препараты, физиолечение и бальниолечение. В период обострения – постельный реж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6ED0-EAB4-439A-ADC5-97DB821F772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2. Лечебное питание – диета № 5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Исключаются: жирные сорта мяса и рыбы, жареные блюда, копчености,  солёные и острые закуски, бобовые, щавель, шпинат, свежие фрукты, крепкий кофе, алкоголь, газированные напи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53FB-3A0D-4DF7-B681-78691F19CD4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3. Противовирусное  лечение: проводиться при гепатите в фазу размножения вируса и предупреждает развитие цирроза и рака печени. Интерфероны в течении 6 месяцев (Интерферон А, Велферон, Рофер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20DC-08C1-467B-8A88-49D91CB7E3A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Цирроз печен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это хронический прогрессирующий процесс в печени, характеризующийся  значительным снижением количества функционирующих гепатоцитов, нарастанием фиброза, перестройкой нормальной структуры печени и развитием печёночной недостаточности и портальной гипертенз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BD53-4E91-4C2E-92A3-5F3D0185C47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4. Патогенетическое лечение: кортикостероиды, цитост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5. Иммуномоделирующая терапия оказывает стимулирующее и нормализующее действие  на иммунную систему: Тималин,                 Д-пенициллин, Тимоген, Т-актив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A7B6-B5BF-4DA2-AFBF-0464A8E23B0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6. Метаболическая и коферментная терапия направлена на улучшение процессов обмена в печеночных клетках. Поливитаминные комплексы: Декамевит, Ундевит, Дуовит, витамин Е, Рибоксин, Эссенциа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8000-C269-4B0B-AA87-AC63D315177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7. Дезинтоксикационная терапия: Гемодез внутривенно-капельно, 5% глюкоза. Энтеросорбенты – Лактофильтрум, Фильтрум, Энтеросг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8631-87E1-4BC4-89E3-E697B07182E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8. Гепатопротекторы: Корсил, Легалон, Катерг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9.  Лечение кровотечений из расширенных 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A697-16C6-4BAD-9155-9E99B1A5D7D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10. Лечение отёчно-асцитического синдрома при циррозе, вначале – Верошпирон, Альдиктон, а затем в сочетании их с Урегитом, Гипотиазидом, Фуросеми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1467-1CD3-4F35-9FD9-ACC61B2AC1F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Первичная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филактика вирусного гепатита, эффективное лечение острого вирусного гепатита, рациональное питание, контроль за приёмом лекарственных препаратов, борьба с алкоголизмом, наркоман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000A-1713-439D-AA9A-C9C606CA866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Вторичная: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обострений заболевания. Ограничение физических нагрузок, правильное трудоустройство. Лечебное питание, лечение сопутствующих заболеваний Ж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8894-EAD8-4D45-9722-154477A3B52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ость 060101 «Лечебное дел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а «Терапия» 4 курс 7 семес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566F-0E32-4DEF-8AC1-E0933ED4417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При циррозе всегда нарушается дольковая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3D94-3B92-4B5A-84DD-B3B51330537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a5ee6"/>
                </a:solidFill>
                <a:latin typeface="Calibri"/>
              </a:rPr>
              <a:t>Этиолог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ичины развития соответствуют причинам хронического гепатит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Также цирроз печени может сформироваться на фоне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рукции желчных путей, и внутри- и внепечёночных.(врождённые пороки развития    желчевыводящих пут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оне длительного венозного застоя в печени при хронической сердечной недостаточности(кардиальный цирроз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9571-0958-49FB-86F9-17B891F53DF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a5ee6"/>
                </a:solidFill>
                <a:latin typeface="Calibri"/>
              </a:rPr>
              <a:t>Патогенез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м фактором является гибель печёночных клеток. На месте погибших клеток образуются рубцы и нарушается ток крови в доль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дукты распада клеток стимулируют воспалительную реакцию. В результате нарушаются все функции печени и кровоснабжения печёночных клеток, так как плотная соединительная ткань механически сдавливает сосуды печени, в результате начинает развиваться синдром портальной гипертенз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5CC3-EA63-4693-8565-2E1A00C5633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ачале затрудняется венозный кровоток в самой печени, затем происходит венозный застой и варикозное расширение вен пищевода, кишечника, прямой кишки и передней брюшной стенки. Впоследствии начинает развиваться асцит и как осложнение – кровотечение из варикозно расширенных 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A871-929F-4D00-8361-E7CCE245858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3399"/>
                </a:solidFill>
                <a:uFillTx/>
                <a:latin typeface="Calibri"/>
              </a:rPr>
              <a:t>Классификация цирроз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эти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виру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лкого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утоимму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кс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гене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карди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холест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5321-842E-490D-8293-EBC18017835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дии портальной гипертенз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тадия 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начальной де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выраженной де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3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дии печёночной недостато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компенсиров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убкомпенсиров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декомпенсированная(вплоть до развития печёночной ком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0FA1-6905-4109-B2C0-E0B6FEA736D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4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ктивная ф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реми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5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чение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медленно прогрессирую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быстро прогрессирую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таби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EC6B-8E88-48C7-9EB2-B95D10BF940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E1B6-A39D-4565-A88C-A99813D1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1632-D003-4761-8A70-ABA6A69F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5E2F-6CBC-4903-B163-C63C0E42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DCCA-12B5-4813-BCDB-4FA499B2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E64-255B-4206-BBE4-B177CCD3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713-E5E6-4599-B29B-C840015B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54B-3F9D-4017-95F1-5CDB3EE8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D285-5533-4A7A-8077-AB0FC860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1C3-DCD1-4FBD-93F7-C5CF5F78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C41-88F5-4546-A62B-79A45ABB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ACF-C08B-49CF-9825-17DF5A67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44C6-A410-43A4-B2AD-661193BE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4141-C8C5-4CC0-ADDC-EEA8D52F284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CF18-0F00-40C3-9CB4-21451A791C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5582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резентация</a:t>
            </a: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Тема:</a:t>
            </a:r>
            <a:br>
              <a:rPr sz="4000"/>
            </a:br>
            <a:r>
              <a:rPr b="1" i="1" lang="ru-RU" sz="6600" spc="-1" strike="noStrike">
                <a:solidFill>
                  <a:srgbClr val="7030a0"/>
                </a:solidFill>
                <a:latin typeface="Calibri"/>
              </a:rPr>
              <a:t>«Цирроз печени»</a:t>
            </a:r>
            <a:br>
              <a:rPr sz="5400"/>
            </a:br>
            <a:br>
              <a:rPr sz="5400"/>
            </a:br>
            <a:br>
              <a:rPr sz="2800"/>
            </a:br>
            <a:br>
              <a:rPr sz="40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H:\Documents and Settings\Admin\Рабочий стол\Новая папка\4aaf356adeb6[1].jpg"/>
          <p:cNvPicPr/>
          <p:nvPr/>
        </p:nvPicPr>
        <p:blipFill>
          <a:blip r:embed="rId1"/>
          <a:stretch/>
        </p:blipFill>
        <p:spPr>
          <a:xfrm>
            <a:off x="2643120" y="2714760"/>
            <a:ext cx="4024440" cy="35719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a5ee6"/>
                </a:solidFill>
                <a:latin typeface="Calibri"/>
              </a:rPr>
              <a:t>Клин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висит от этиологии, от степени нарушения функции печени и выраженности синдромов портальной гипертензии и печёночной недостаточ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лобы: на боли в правом подреберье и подложечной области, усиливающиеся после еды(жирной, острой) и физических нагрузо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шнота, периодическая рвота, чувство сухости и горечи во рту, общая слабость, утомляемость, раздражительность, кожный зуд, похудание. У женщин – нарушение менструального цикла. У мужчин – нарушение потен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714240" y="285840"/>
            <a:ext cx="7929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ъективно: исхудание, вплоть до истощения, атрофия мускулатуры , кожа желтушно-бледная, суха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ожет быть расширение вен передней брюшной стенки, увеличение живота, выпячивание пупка, отёки нижних конечностей. Сердцебиение, глухость сердечных тонов, аритмия, одышка, повышение артериального давл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 фоне цирроза печени развивается хронический гастрит, язвенная болезнь, сахарный диабет, нарушается функция половых желез, надпочечников и развивается токсическая энцефалопатия. Она проявляется нарушением сна, головными болями, снижением памяти, дрожанием пальцев рук, апати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ечень при пальпации плотная, увеличена в размерах, с острым краем. На поздних стадиях цирроза может быть уменьшена в размера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42560"/>
            <a:ext cx="56865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Часто при циррозе развиваются осложн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овотечения из расширенных вен пищевода, или геморроидальных уз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итие печеночной недостаточности с исходом в печеночную к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торичная бактериальная инфекция (тяжелая пневмония, сепсис, перитони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еход цирроза печени в р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:\Documents and Settings\Admin\Рабочий стол\Новая папка\i[11].jpg"/>
          <p:cNvPicPr/>
          <p:nvPr/>
        </p:nvPicPr>
        <p:blipFill>
          <a:blip r:embed="rId1"/>
          <a:stretch/>
        </p:blipFill>
        <p:spPr>
          <a:xfrm>
            <a:off x="6286680" y="2214720"/>
            <a:ext cx="2857320" cy="3143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a5ee6"/>
                </a:solidFill>
                <a:latin typeface="Calibri"/>
              </a:rPr>
              <a:t>Диагностика цирроза печен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499760"/>
            <a:ext cx="6543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АК – анемия, тромбоцитопения, лейкопения, увеличение СОЭ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АМ – протеинурия, микрогематурия,  билирубин в моч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ммунологический анали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:\Documents and Settings\Admin\Рабочий стол\Новая папка\3YFZKCA02QLDTCALXCO7RCAO07E6YCAH1AJF0CAPFQ6IYCA0MD2FSCAMT2GO4CAYHAB10CAEM8XEHCACQS9ATCAYWC5CRCAZN9L0BCA12JIU0CAPBC1MOCAXTC0D8CANM4666CAM12J1LCAZ24MJ5CAARC7FN.jpg"/>
          <p:cNvPicPr/>
          <p:nvPr/>
        </p:nvPicPr>
        <p:blipFill>
          <a:blip r:embed="rId1"/>
          <a:stretch/>
        </p:blipFill>
        <p:spPr>
          <a:xfrm>
            <a:off x="6715080" y="3929040"/>
            <a:ext cx="2071800" cy="247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H:\Documents and Settings\Admin\Рабочий стол\Новая папка\CHRSUCA859NR4CA7MAGTQCA4XCZH0CAE0AS4MCAEG5G7ZCA3TSXFJCAN3U7OZCA37WOOPCAWTH0PMCA2GLPOZCA36LS3LCASVEB76CAI09S12CASE3ZDOCA53BHMLCA67HE32CACKPZF2CAO8PTHFCAS95PTF.jpg"/>
          <p:cNvPicPr/>
          <p:nvPr/>
        </p:nvPicPr>
        <p:blipFill>
          <a:blip r:embed="rId2"/>
          <a:stretch/>
        </p:blipFill>
        <p:spPr>
          <a:xfrm>
            <a:off x="6858000" y="1285920"/>
            <a:ext cx="2085840" cy="15717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4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8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. Маркёры вирусной инфекци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.  Биохимическое исследование крови – гипербилирубинемия, диспротеинемия, за счет увеличения количества глобулинов. Повышение уровня осадочных проб – сулемовая, тимоловая. Повышение уровня трансаминаз – Ал-Ат, Ас-Ат, и щелочной фосфатаз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Calibri"/>
              </a:rPr>
              <a:t>Инструментальные исслед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13920"/>
            <a:ext cx="5757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ЗИ печени и желчного пузыря(выявляется неравномерность ткани печени, увеличение размер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ьютерная томография органов брюшной пол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строско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лоноско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:\Documents and Settings\Admin\Рабочий стол\Новая папка\p97[1].jpg"/>
          <p:cNvPicPr/>
          <p:nvPr/>
        </p:nvPicPr>
        <p:blipFill>
          <a:blip r:embed="rId1"/>
          <a:stretch/>
        </p:blipFill>
        <p:spPr>
          <a:xfrm>
            <a:off x="6429240" y="1000080"/>
            <a:ext cx="2357640" cy="2071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ункционная биопсия печени с последующим гистологическим исследованием, может проводиться во время лапароскопии или чрезкожно.  Позволяет судить об активности процесса и является важным дифференциальным критерием для отличия хронического гепатита от цирроза печ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H:\Documents and Settings\Admin\Рабочий стол\Новая папка\WHUVGCANTV7S7CAOJANVPCA8WRMVMCAB3TTQHCALN563HCAUDA1R8CAPPBPI4CAGAZSN1CAGDD0I1CAS2FMYDCAE34JK5CABYV9S0CALGRY3TCAL7NFL2CAKHKIYTCAONTVMPCAJBCNHUCAVR9I85CAG3UGF7.jpg"/>
          <p:cNvPicPr/>
          <p:nvPr/>
        </p:nvPicPr>
        <p:blipFill>
          <a:blip r:embed="rId1"/>
          <a:stretch/>
        </p:blipFill>
        <p:spPr>
          <a:xfrm>
            <a:off x="6429240" y="4143240"/>
            <a:ext cx="2455920" cy="25005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356760"/>
            <a:ext cx="8043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ff"/>
                </a:solidFill>
                <a:latin typeface="Calibri"/>
              </a:rPr>
              <a:t>Лечени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166cb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6cba"/>
                </a:solidFill>
                <a:latin typeface="Calibri"/>
              </a:rPr>
              <a:t>Лечебный режим. Исключается работа с физическими и психоэмоциональными нагрузками. Показан кратковременный отдых в течении дня. Исключаются гепатотоксические препараты, физиолечение и бальниолечение. В период обострения – постельный режи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2. Лечебное питание – диета № 5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Исключаются: жирные сорта мяса и рыбы, жареные блюда, копчености,  солёные и острые закуски, бобовые, щавель, шпинат, свежие фрукты, крепкий кофе, алкоголь, газированные напит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57132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3. Противовирусное  лечение: проводиться при гепатите в фазу размножения вируса и предупреждает развитие цирроза и рака печени. Интерфероны в течении 6 месяцев (Интерферон А, Велферон, Роферон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21420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Calibri"/>
              </a:rPr>
              <a:t>Цирроз печени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это хронический прогрессирующий процесс в печени, характеризующийся  значительным снижением количества функционирующих гепатоцитов, нарастанием фиброза, перестройкой нормальной структуры печени и развитием печёночной недостаточности и портальной гипертензи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42876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4. Патогенетическое лечение: кортикостероиды, цитостати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5. Иммуномоделирующая терапия оказывает стимулирующее и нормализующее действие  на иммунную систему: Тималин,                 Д-пенициллин, Тимоген, Т-активи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166c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6. Метаболическая и коферментная терапия направлена на улучшение процессов обмена в печеночных клетках. Поливитаминные комплексы: Декамевит, Ундевит, Дуовит, витамин Е, Рибоксин, Эссенциал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9288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6cba"/>
                </a:solidFill>
                <a:latin typeface="Calibri"/>
              </a:rPr>
              <a:t>7. Дезинтоксикационная терапия: Гемодез внутривенно-капельно, 5% глюкоза. Энтеросорбенты – Лактофильтрум, Фильтрум, Энтеросг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428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6cba"/>
                </a:solidFill>
                <a:latin typeface="Calibri"/>
              </a:rPr>
              <a:t>8. Гепатопротекторы: Корсил, Легалон, Катерге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6cba"/>
                </a:solidFill>
                <a:latin typeface="Calibri"/>
              </a:rPr>
              <a:t>9.  Лечение кровотечений из расширенных ве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6cba"/>
                </a:solidFill>
                <a:latin typeface="Calibri"/>
              </a:rPr>
              <a:t>10. Лечение отёчно-асцитического синдрома при циррозе, вначале – Верошпирон, Альдиктон, а затем в сочетании их с Урегитом, Гипотиазидом, Фуросемид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офилакт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357200"/>
            <a:ext cx="82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Первичная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филактика вирусного гепатита, эффективное лечение острого вирусного гепатита, рациональное питание, контроль за приёмом лекарственных препаратов, борьба с алкоголизмом, наркомани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:\Documents and Settings\Admin\Рабочий стол\Новая папка\i[2].jpg"/>
          <p:cNvPicPr/>
          <p:nvPr/>
        </p:nvPicPr>
        <p:blipFill>
          <a:blip r:embed="rId1"/>
          <a:stretch/>
        </p:blipFill>
        <p:spPr>
          <a:xfrm>
            <a:off x="6786720" y="3814920"/>
            <a:ext cx="2143080" cy="30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H:\Documents and Settings\Admin\Рабочий стол\YLZSKCAGWDMHFCAN4DN4WCARUK6A7CA1QNARJCASNDQTACAM46ZR3CAGMNCHLCA90XFFACA1Z0AHOCAWCV01FCACOPAZFCAB6PV6CCAFUR588CAF8QK4ICA0J6D0ICAE2BY75CA4T46JHCA3PS653CAPB70J5.jpg"/>
          <p:cNvPicPr/>
          <p:nvPr/>
        </p:nvPicPr>
        <p:blipFill>
          <a:blip r:embed="rId2"/>
          <a:stretch/>
        </p:blipFill>
        <p:spPr>
          <a:xfrm>
            <a:off x="1143000" y="4518000"/>
            <a:ext cx="3571920" cy="2340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7858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Calibri"/>
              </a:rPr>
              <a:t>Вторичная: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филактика обострений заболевания. Ограничение физических нагрузок, правильное трудоустройство. Лечебное питание, лечение сопутствующих заболеваний ЖК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071720"/>
            <a:ext cx="822960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ециальность 060101 «Лечебное дел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циплина «Терапия» 4 курс 7 семес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H:\Documents and Settings\Admin\Рабочий стол\Новая папка\4aaf356adeb6[1].jpg"/>
          <p:cNvPicPr/>
          <p:nvPr/>
        </p:nvPicPr>
        <p:blipFill>
          <a:blip r:embed="rId1"/>
          <a:stretch/>
        </p:blipFill>
        <p:spPr>
          <a:xfrm>
            <a:off x="1857240" y="1785960"/>
            <a:ext cx="5024520" cy="47372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571680" y="428760"/>
            <a:ext cx="771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Calibri"/>
              </a:rPr>
              <a:t>При циррозе всегда нарушается дольковая структу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5ee6"/>
                </a:solidFill>
                <a:latin typeface="Calibri"/>
              </a:rPr>
              <a:t>Этиолог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760" y="1000080"/>
            <a:ext cx="6286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чины развития соответствуют причинам хронического гепати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Также цирроз печени может сформироваться на фоне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струкции желчных путей, и внутри- и внепечёночных.(врождённые пороки развития    желчевыводящих путе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фоне длительного венозного застоя в печени при хронической сердечной недостаточности(кардиальный цирроз печен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:\Documents and Settings\Admin\Рабочий стол\Новая папка\5M061CAJRNS5PCAO051ESCAC8DIVNCA57SSE9CAIEJG46CALK8EUSCATJHW0ICABAI9RWCAUDCG6NCA9A7SXGCA2EARDMCAHO6RLCCAKSX2SVCAEMZ98VCAZRS6AKCAT4D7ELCA5C5YGWCARRFSISCAVO2VAS.jpg"/>
          <p:cNvPicPr/>
          <p:nvPr/>
        </p:nvPicPr>
        <p:blipFill>
          <a:blip r:embed="rId1"/>
          <a:stretch/>
        </p:blipFill>
        <p:spPr>
          <a:xfrm>
            <a:off x="6492960" y="2143080"/>
            <a:ext cx="256536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5ee6"/>
                </a:solidFill>
                <a:latin typeface="Calibri"/>
              </a:rPr>
              <a:t>Патогене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7858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сновным фактором является гибель печёночных клеток. На месте погибших клеток образуются рубцы и нарушается ток крови в доль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дукты распада клеток стимулируют воспалительную реакцию. В результате нарушаются все функции печени и кровоснабжения печёночных клеток, так как плотная соединительная ткань механически сдавливает сосуды печени, в результате начинает развиваться синдром портальной гипертенз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начале затрудняется венозный кровоток в самой печени, затем происходит венозный застой и варикозное расширение вен пищевода, кишечника, прямой кишки и передней брюшной стенки. Впоследствии начинает развиваться асцит и как осложнение – кровотечение из варикозно расширенных в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ff3399"/>
                </a:solidFill>
                <a:uFillTx/>
                <a:latin typeface="Calibri"/>
              </a:rPr>
              <a:t>Классификация циррозов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00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этиолог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вирус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лкого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утоимму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токс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гене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кардиа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холеста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дии портальной гипертенз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тадия 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начальной де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выраженной де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дии печёночной недостаточ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компенсирова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убкомпенсирова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декомпенсированная(вплоть до развития печёночной комы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тивность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ктивная ф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ремис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чение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медленно прогрессирующ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быстро прогрессирующ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таби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0:35:32Z</dcterms:created>
  <dc:creator>Admin</dc:creator>
  <dc:description/>
  <dc:language>en-US</dc:language>
  <cp:lastModifiedBy>LEGION</cp:lastModifiedBy>
  <dcterms:modified xsi:type="dcterms:W3CDTF">2015-02-13T11:06:12Z</dcterms:modified>
  <cp:revision>52</cp:revision>
  <dc:subject/>
  <dc:title>Презентация на тему: «Хронический гепатит и цирроз печени» </dc:title>
</cp:coreProperties>
</file>